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4.jpeg" ContentType="image/jpeg"/>
  <Override PartName="/ppt/media/image25.png" ContentType="image/png"/>
  <Override PartName="/ppt/media/image5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23.png" ContentType="image/png"/>
  <Override PartName="/ppt/media/image13.jpeg" ContentType="image/jpeg"/>
  <Override PartName="/ppt/media/image30.png" ContentType="image/png"/>
  <Override PartName="/ppt/media/image28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E9EF-7ECD-4C0C-9963-7ABF0910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B7DA-F3F4-4E8E-961E-7F441268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731B-2645-4785-889B-3C34BAEC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EF58-AFE7-46E1-A616-D92B2CD2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F059-7DD9-41D4-B4E9-B5506307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5A94-7877-401B-94CA-30F42401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65F1-E0CD-4ECA-AFF7-103C55A4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86D6-282C-425B-8B91-7A3EFE7A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1394-951A-480F-AF20-F7C17719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C7D8-917E-4F20-A410-9F1A26D6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6F07-CA86-440C-B540-5948AC86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ADD5-788D-46B3-B264-7EB7E2CE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3F3C-38CA-4E92-B255-7D7E1581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6914-472E-4991-A768-8F099D5C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2865-251F-4224-89CB-1FB66C44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EB54-3909-473E-91F6-27D29110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E8BA-516A-4361-B3D9-9B466E99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9D9C-3223-483C-90A8-5E3CEAAF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6730-550E-4E10-8DB1-F6B72088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5D54-DD59-401F-B557-1E6F674A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BFCA-7C25-42B0-8231-87BB2A7B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C65C-80A8-401E-83D4-8EE1D7EF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35B2-4CC6-46B7-B7D1-1312E0EE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3CA7-DDE3-4272-9C97-C92021D6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2361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048120" y="640080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AFB4-BF5E-46D2-9103-4AADC6A4E2B4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AFBF-85BF-4094-8AE5-96A3304CAB99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12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geomundo.com.br/nossa_escola_normas_trabalho_escolar.htm#CONCLUS&#195;O%23CONCLUS&#195;O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149720"/>
            <a:ext cx="8534160" cy="110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cc"/>
                </a:solidFill>
                <a:latin typeface="Times New Roman"/>
              </a:rPr>
              <a:t>Geometria Molecular e Interações Químicas Molecular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Tetraédrica   F   (CH</a:t>
            </a:r>
            <a:r>
              <a:rPr b="0" lang="pt-BR" sz="44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)   109,5º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662040" y="2786040"/>
            <a:ext cx="3000240" cy="323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4619520" y="2913120"/>
            <a:ext cx="288288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nus Paul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Prêmio Nobel de Química em 1954 e da Paz em 1962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Famoso por suas pesquisas sobre estruturas moleculares e pela luta contra as armas nuclear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956120" y="2060640"/>
            <a:ext cx="330516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cc"/>
                </a:solidFill>
                <a:latin typeface="Times New Roman"/>
              </a:rPr>
              <a:t>Conceito de Eletronegatividad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Eletronegatividade é a tendência que o átomo de um determinado elemento apresenta para atrair elétrons, num contexto em que se acha ligado a outro átom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F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ui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ntem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1" lang="pt-BR" sz="1600" spc="-1" strike="noStrike">
                <a:solidFill>
                  <a:srgbClr val="eaeaea"/>
                </a:solidFill>
                <a:latin typeface="Times New Roman"/>
              </a:rPr>
              <a:t>l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ube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pt-BR" sz="16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asil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S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ó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omi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ão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úngaro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  Meta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755640" y="5300640"/>
            <a:ext cx="7273800" cy="432000"/>
          </a:xfrm>
          <a:prstGeom prst="leftArrow">
            <a:avLst>
              <a:gd name="adj1" fmla="val 50000"/>
              <a:gd name="adj2" fmla="val 420937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Gráfico da eletronegativida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1" name="Picture 4" descr="http://1.bp.blogspot.com/_ptRreTrA-Ms/S6KgHhBeihI/AAAAAAAAADA/1RYF5jQsDbU/s400/Tabela+e+a+eletronegatividade.bmp"/>
          <p:cNvPicPr/>
          <p:nvPr/>
        </p:nvPicPr>
        <p:blipFill>
          <a:blip r:embed="rId1"/>
          <a:stretch/>
        </p:blipFill>
        <p:spPr>
          <a:xfrm>
            <a:off x="179280" y="1413000"/>
            <a:ext cx="856944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Valores de Eletronegativida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662040" y="19051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58092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Polaridade das Ligaçõ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gação Polares e Apolar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Ligação covalente polar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∆ = 4,0 – 2,1 = 1,9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</a:rPr>
              <a:t>δ+        δ- </a:t>
            </a:r>
            <a:br>
              <a:rPr sz="1800"/>
            </a:b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H ─ Cl    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*Como o Cloro é mais eletronegativo, atrai para si o pólo com carga positiva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Ligação covalente apolar</a:t>
            </a:r>
            <a:r>
              <a:rPr b="1" lang="pt-BR" sz="1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∆ = 2,1 -2,1 = 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H 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─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H            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</a:rPr>
              <a:t>* Possuem a mesma eletronegatividad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gação Iônica X Ligação Covalent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Ligação iônica : Doação e recebimento de elétrons. 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</a:rPr>
              <a:t>(metais com não metais),( 1,2e3 com 5,6 e7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Valores de 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Arial"/>
              </a:rPr>
              <a:t>∆ acima de 2 indica ligação com caráter iônic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KCl ∆ = 3,0 – 0,8 = 2,2     (IÔNICA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NaCl ∆ = 3,0 – 0,9 = 2,1     (IÔNICA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gação Iônica X Ligação Covalent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Ligação Covalente: Compartilhamento de pares de elétrons. (Não metai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Valores de 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Arial"/>
              </a:rPr>
              <a:t>∆ abaixo de 1,5 indica ligação com caráter predominantemente covalent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Cl</a:t>
            </a:r>
            <a:r>
              <a:rPr b="0" lang="pt-BR" sz="1800" spc="-1" strike="noStrike" baseline="-25000">
                <a:solidFill>
                  <a:srgbClr val="eaeaea"/>
                </a:solidFill>
                <a:latin typeface="Times New Roman"/>
                <a:ea typeface="Arial"/>
              </a:rPr>
              <a:t>2 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∆ = 3,0 – 3,0 = zero     (COVALENTE </a:t>
            </a:r>
            <a:r>
              <a:rPr b="0" lang="pt-BR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APOLAR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BrCl ∆ = 3,0 – 2,8 = 0,2    (COVALENTE POLAR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ICl  ∆ = 3,0 – 2,5 = 0,5      (COVALENTE POLAR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HCl ∆ = 3,0 – 2,1 = 0,9     (COVALENTE POLAR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58092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Polaridade das Molécul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Geometria Molecul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É o estudo de como os átomos estão distribuídos espacialmente em uma molécula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Dependendo dos átomos que a compõem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As principais classificações são: linear, angular, trigonal plana, piramidal e tetraédric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Para se determinar a geometria de uma molécula, é preciso conhecer a teoria da repulsão dos pares eletrônicos da camada de valênci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Polaridade de molécul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A polaridade de uma molécula é verificada pelo valor do momento de dipolo 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  <a:ea typeface="Arial"/>
              </a:rPr>
              <a:t>→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A polaridade de moléculas com mais de dois átomos é expressa por: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  <a:ea typeface="Arial"/>
              </a:rPr>
              <a:t> →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µ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  <a:ea typeface="Arial"/>
              </a:rPr>
              <a:t>R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(momento dipolo resultante)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baseline="30000">
                <a:solidFill>
                  <a:srgbClr val="eaeaea"/>
                </a:solidFill>
                <a:latin typeface="Times New Roman"/>
                <a:ea typeface="Arial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H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  <a:ea typeface="Arial"/>
              </a:rPr>
              <a:t>2 </a:t>
            </a:r>
            <a:r>
              <a:rPr b="0" lang="pt-BR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       H─H           geometria linear     →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µ = zero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Apol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HF         H ─F          geometria linear       →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µ ≠ 0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Pol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CO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  <a:ea typeface="Arial"/>
              </a:rPr>
              <a:t>2 </a:t>
            </a:r>
            <a:r>
              <a:rPr b="0" lang="pt-BR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   O═C ═ O      geometria linear      →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µ = 0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Apol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HCN    H ─ C≡N       geometria linear      →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µ ≠ 0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Pol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Polaridade das molécul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62040" y="1904760"/>
            <a:ext cx="3814560" cy="198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Amônia(NH</a:t>
            </a:r>
            <a:r>
              <a:rPr b="0" lang="pt-BR" sz="24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) Pol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19160" y="1904760"/>
            <a:ext cx="3814920" cy="198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2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O  Pol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62040" y="4029120"/>
            <a:ext cx="3814560" cy="19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2400" spc="-1" strike="noStrike" baseline="-25000">
                <a:solidFill>
                  <a:srgbClr val="eaeaea"/>
                </a:solidFill>
                <a:latin typeface="Times New Roman"/>
              </a:rPr>
              <a:t>4  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Apol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19160" y="4029120"/>
            <a:ext cx="3814920" cy="19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HCCl</a:t>
            </a:r>
            <a:r>
              <a:rPr b="0" lang="pt-BR" sz="2400" spc="-1" strike="noStrike" baseline="-25000">
                <a:solidFill>
                  <a:srgbClr val="eaeaea"/>
                </a:solidFill>
                <a:latin typeface="Times New Roman"/>
              </a:rPr>
              <a:t>3    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Pol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1"/>
          <a:stretch/>
        </p:blipFill>
        <p:spPr>
          <a:xfrm>
            <a:off x="826920" y="4508640"/>
            <a:ext cx="2405160" cy="2133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100px-Chloroform_displayed"/>
          <p:cNvPicPr/>
          <p:nvPr/>
        </p:nvPicPr>
        <p:blipFill>
          <a:blip r:embed="rId2"/>
          <a:stretch/>
        </p:blipFill>
        <p:spPr>
          <a:xfrm>
            <a:off x="5292720" y="4508640"/>
            <a:ext cx="2016000" cy="1895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3"/>
          <a:stretch/>
        </p:blipFill>
        <p:spPr>
          <a:xfrm>
            <a:off x="1187280" y="2421000"/>
            <a:ext cx="1729080" cy="1687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"/>
          <p:cNvPicPr/>
          <p:nvPr/>
        </p:nvPicPr>
        <p:blipFill>
          <a:blip r:embed="rId4"/>
          <a:stretch/>
        </p:blipFill>
        <p:spPr>
          <a:xfrm>
            <a:off x="5364000" y="242100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58092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Força de Interação ou </a:t>
            </a:r>
            <a:br>
              <a:rPr sz="4400"/>
            </a:b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gação Intermolecul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Força de Interação ou </a:t>
            </a:r>
            <a:br>
              <a:rPr sz="4400"/>
            </a:b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gação Intermolecul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843444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O que mantêm as moléculas unidas nos três estados (sólido, líquido e gasoso) são as chamadas ligações ou forças ou interações molecular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São três tipos de força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Ligação de Hidrogêni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Dipolo permanente ou dipolo-dipolo (D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Dipolo instantâneo  (DI), força de van  der Waals ou força de dispersão de Lond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Estados de agregação de uma substânci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49016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gação de Hidrogêni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São interações que ocorrem  entre moléculas que apresentem H ligados diretamente a </a:t>
            </a:r>
            <a:r>
              <a:rPr b="1" lang="pt-BR" sz="3200" spc="-1" strike="noStrike" u="sng">
                <a:solidFill>
                  <a:srgbClr val="eaeaea"/>
                </a:solidFill>
                <a:uFillTx/>
                <a:latin typeface="Times New Roman"/>
              </a:rPr>
              <a:t>F</a:t>
            </a:r>
            <a:r>
              <a:rPr b="1" lang="pt-BR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pt-BR" sz="3200" spc="-1" strike="noStrike" u="sng">
                <a:solidFill>
                  <a:srgbClr val="eaeaea"/>
                </a:solidFill>
                <a:uFillTx/>
                <a:latin typeface="Times New Roman"/>
              </a:rPr>
              <a:t>O </a:t>
            </a:r>
            <a:r>
              <a:rPr b="1" lang="pt-BR" sz="3200" spc="-1" strike="noStrike">
                <a:solidFill>
                  <a:srgbClr val="eaeaea"/>
                </a:solidFill>
                <a:latin typeface="Times New Roman"/>
              </a:rPr>
              <a:t>ou</a:t>
            </a:r>
            <a:r>
              <a:rPr b="1" lang="pt-BR" sz="3200" spc="-1" strike="noStrike" u="sng">
                <a:solidFill>
                  <a:srgbClr val="eaeaea"/>
                </a:solidFill>
                <a:uFillTx/>
                <a:latin typeface="Times New Roman"/>
              </a:rPr>
              <a:t> N</a:t>
            </a:r>
            <a:r>
              <a:rPr b="1" lang="pt-BR" sz="3200" spc="-1" strike="noStrike">
                <a:solidFill>
                  <a:srgbClr val="eaeaea"/>
                </a:solidFill>
                <a:latin typeface="Times New Roman"/>
              </a:rPr>
              <a:t>.       </a:t>
            </a:r>
            <a:r>
              <a:rPr b="0" lang="pt-BR" sz="2000" spc="-1" strike="noStrike">
                <a:solidFill>
                  <a:srgbClr val="eaeaea"/>
                </a:solidFill>
                <a:latin typeface="Times New Roman"/>
              </a:rPr>
              <a:t>(EX: NH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2000" spc="-1" strike="noStrike">
                <a:solidFill>
                  <a:srgbClr val="eaeaea"/>
                </a:solidFill>
                <a:latin typeface="Times New Roman"/>
              </a:rPr>
              <a:t> – H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000" spc="-1" strike="noStrike">
                <a:solidFill>
                  <a:srgbClr val="eaeaea"/>
                </a:solidFill>
                <a:latin typeface="Times New Roman"/>
              </a:rPr>
              <a:t>O -HF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4319280" cy="2376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"/>
          <p:cNvPicPr/>
          <p:nvPr/>
        </p:nvPicPr>
        <p:blipFill>
          <a:blip r:embed="rId2"/>
          <a:stretch/>
        </p:blipFill>
        <p:spPr>
          <a:xfrm>
            <a:off x="5867280" y="3573360"/>
            <a:ext cx="26622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gação de Hidrogêni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Ligação covalente e de hidrogêni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Ligação de hidrogênio rompen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8" name="Picture 10" descr=""/>
          <p:cNvPicPr/>
          <p:nvPr/>
        </p:nvPicPr>
        <p:blipFill>
          <a:blip r:embed="rId1"/>
          <a:stretch/>
        </p:blipFill>
        <p:spPr>
          <a:xfrm>
            <a:off x="4427640" y="2781360"/>
            <a:ext cx="4284720" cy="3213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29955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Dipolo Dipol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Força de atração entre dipolos, positivos e negativ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Ex: HCl  -HI - PCl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2" name="Picture 7" descr="180px-Dipole-dipole-interaction-in-HCl-2D"/>
          <p:cNvPicPr/>
          <p:nvPr/>
        </p:nvPicPr>
        <p:blipFill>
          <a:blip r:embed="rId1"/>
          <a:stretch/>
        </p:blipFill>
        <p:spPr>
          <a:xfrm>
            <a:off x="1332000" y="2276640"/>
            <a:ext cx="3168720" cy="757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32418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Dipolo Induzido ou van der Waal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correm em todas as substâncias  apola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F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, Cl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, Br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, I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, hidrocarbonet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692360" y="3684600"/>
            <a:ext cx="3058920" cy="3173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"/>
          <p:cNvPicPr/>
          <p:nvPr/>
        </p:nvPicPr>
        <p:blipFill>
          <a:blip r:embed="rId2"/>
          <a:stretch/>
        </p:blipFill>
        <p:spPr>
          <a:xfrm>
            <a:off x="6443640" y="2997360"/>
            <a:ext cx="160488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358092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Forças Intermoleculares e Ponto de Ebuliçã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448920"/>
            <a:ext cx="7086600" cy="122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cc"/>
                </a:solidFill>
                <a:latin typeface="Times New Roman"/>
              </a:rPr>
              <a:t>VSEPR 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(repulsão dos pares de elétrons da camada de valência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Baseia-se na idéia de que pares eletrônicos da camada de valência de um átomo </a:t>
            </a:r>
            <a:r>
              <a:rPr b="1" lang="pt-BR" sz="2800" spc="-1" strike="noStrike">
                <a:solidFill>
                  <a:srgbClr val="eaeaea"/>
                </a:solidFill>
                <a:latin typeface="Times New Roman"/>
              </a:rPr>
              <a:t>central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, estejam fazendo Ligação química ou não, se comportam como nuvens eletrônicas que se repelem, ficando com a maior distância angular possível uns dos outros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Uma nuvem eletrônica pode ser representada por uma ligação simples, dupla, tripla ou mesmo por um par de elétrons que não estão a fazer ligação química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Forças Intermoleculares e Ponto de Ebuliçã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Quando uma substância á aquecida e passa do estado líquido ou sólido para o estado gasoso ocorre o rompimento de ligação intermolecula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1"/>
          <a:stretch/>
        </p:blipFill>
        <p:spPr>
          <a:xfrm>
            <a:off x="462456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Força de ligação e Ponto de Ebulição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Ligação de Hidrogênio: HF- 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 - N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Ligação Dipolo Dipolo: HCl – HBr – H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Ligação de Dipolo-instantâneo ou DI: F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, Cl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, Br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, I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8101080" y="1916280"/>
            <a:ext cx="503280" cy="4392360"/>
          </a:xfrm>
          <a:prstGeom prst="upArrow">
            <a:avLst>
              <a:gd name="adj1" fmla="val 50000"/>
              <a:gd name="adj2" fmla="val 218187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Ponto de Ebulição e Tamanho da Cadei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O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6948360" y="2637000"/>
            <a:ext cx="720720" cy="3528720"/>
          </a:xfrm>
          <a:prstGeom prst="upArrow">
            <a:avLst>
              <a:gd name="adj1" fmla="val 50000"/>
              <a:gd name="adj2" fmla="val 122403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Peruzzo, Francisco Miragaia. </a:t>
            </a:r>
            <a:r>
              <a:rPr b="0" lang="pt-BR" sz="2800" spc="-1" strike="noStrike" u="sng">
                <a:solidFill>
                  <a:srgbClr val="eaeaea"/>
                </a:solidFill>
                <a:uFillTx/>
                <a:latin typeface="Times New Roman"/>
              </a:rPr>
              <a:t>Química na abordagem do cotidiano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: volume 2, ensino médio. São Paulo: Moderna, 2003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Google. Disponível em &lt;http://images.google.com.br/images&gt; acesso em 27/06/2009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Disponível em&lt;http://educacao.uol.com.br/quimica/&gt;acesso em 27/06/2009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68000" y="0"/>
            <a:ext cx="921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2000"/>
          </a:bodyPr>
          <a:p>
            <a:pPr marL="178200" indent="-17820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Redigir um trabalho digitado sobre: Geometria molecular , polaridade de ligações e forças intermolecula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78200" indent="-17820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Data de previa 13/08  quimicopolar@gmail.co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78200" indent="-17820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Entrega 24/0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78200" indent="-17820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eaeaea"/>
                </a:solidFill>
                <a:latin typeface="Times New Roman"/>
              </a:rPr>
              <a:t>I. ESTRUTURA OBRIGATÓRIA DE TRABALHO ESCOLAR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178200" indent="-17820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1. Capa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78200" indent="-17820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2. Folha de Rosto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78200" indent="-17820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3.Apresentação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78200" indent="-17820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4.Sumário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78200" indent="-17820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5.Textos ou Desenvolvimento do Conteúd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78200" indent="-17820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cc3300"/>
                </a:solidFill>
                <a:uFillTx/>
                <a:latin typeface="Times New Roman"/>
                <a:hlinkClick r:id="rId1"/>
              </a:rPr>
              <a:t> 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7. Conclusão pesso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78200" indent="-17820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8. Bibliografia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78200" indent="-17820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Geometria Molecul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755640" y="1725480"/>
            <a:ext cx="792000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near               l80º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HC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HB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Picture 7" descr="Crystal structure of hydrogen (I) bromide"/>
          <p:cNvPicPr/>
          <p:nvPr/>
        </p:nvPicPr>
        <p:blipFill>
          <a:blip r:embed="rId1"/>
          <a:stretch/>
        </p:blipFill>
        <p:spPr>
          <a:xfrm>
            <a:off x="5076720" y="3141720"/>
            <a:ext cx="3240360" cy="24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Crystal structure of hydrogen (I) chloride"/>
          <p:cNvPicPr/>
          <p:nvPr/>
        </p:nvPicPr>
        <p:blipFill>
          <a:blip r:embed="rId2"/>
          <a:stretch/>
        </p:blipFill>
        <p:spPr>
          <a:xfrm>
            <a:off x="684360" y="3068640"/>
            <a:ext cx="340488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near               180º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5292720" y="4149720"/>
            <a:ext cx="3260880" cy="15350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CO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611280" y="3284640"/>
            <a:ext cx="381636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Angular                104,5º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4643280" y="2349360"/>
            <a:ext cx="4245120" cy="3159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2"/>
          <a:stretch/>
        </p:blipFill>
        <p:spPr>
          <a:xfrm>
            <a:off x="1116000" y="2492280"/>
            <a:ext cx="289872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Trigonal Plana  D  BF</a:t>
            </a:r>
            <a:r>
              <a:rPr b="0" lang="pt-BR" sz="4400" spc="-1" strike="noStrike" baseline="-25000">
                <a:solidFill>
                  <a:srgbClr val="ffffcc"/>
                </a:solidFill>
                <a:latin typeface="Times New Roman"/>
              </a:rPr>
              <a:t>3     </a:t>
            </a: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120º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4619520" y="2455920"/>
            <a:ext cx="3306960" cy="3564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662040" y="2455920"/>
            <a:ext cx="330336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Pirâmide Trigonal E    107,3º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662040" y="1905120"/>
            <a:ext cx="3424320" cy="3690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NH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Picture 10" descr="Crystal structure of nitrogen (III) fluoride"/>
          <p:cNvPicPr/>
          <p:nvPr/>
        </p:nvPicPr>
        <p:blipFill>
          <a:blip r:embed="rId2"/>
          <a:stretch/>
        </p:blipFill>
        <p:spPr>
          <a:xfrm>
            <a:off x="5076720" y="2565360"/>
            <a:ext cx="32227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4:07:23Z</dcterms:created>
  <dc:creator>XP</dc:creator>
  <dc:description/>
  <dc:language>en-US</dc:language>
  <cp:lastModifiedBy>Moisés</cp:lastModifiedBy>
  <dcterms:modified xsi:type="dcterms:W3CDTF">2012-08-06T14:53:20Z</dcterms:modified>
  <cp:revision>48</cp:revision>
  <dc:subject/>
  <dc:title>Geometria Molecular e Interações Químicas Moleculares</dc:title>
</cp:coreProperties>
</file>